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E9E-4C19-400E-9D1D-4CABB087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D9D-0D5D-4FE8-990F-3E85CDB9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617-FA5C-4EF1-B1FB-BB250FF2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D7BC-03EE-4EDC-9DE2-D6318808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0CC-93DA-4776-9A32-4E618D0E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F3E-9A5F-4B65-B942-8EC2EF5F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5EC-F5CD-43E5-ADAF-7B219A15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F60-F97B-43DA-A6B7-87A9FD13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2B3-A472-4B1A-8939-9F7FE8DA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745-3A06-4F33-B122-EBDA28F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C7F-C286-47CE-A251-C8423826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4C5-16C2-4A57-866D-19C4AB9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6EFF-DC0D-445F-838D-6254CD8E8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library.thinkquest.org/3096/2types.htm" TargetMode="External"/><Relationship Id="rId3" Type="http://schemas.openxmlformats.org/officeDocument/2006/relationships/hyperlink" Target="http://library.thinkquest.org/3096/2types.htm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nvestopedia.com/terms/t/taxdeferred.asp" TargetMode="External"/><Relationship Id="rId3" Type="http://schemas.openxmlformats.org/officeDocument/2006/relationships/hyperlink" Target="http://www.investopedia.com/terms/t/taxdeferred.asp" TargetMode="External"/><Relationship Id="rId4" Type="http://schemas.openxmlformats.org/officeDocument/2006/relationships/hyperlink" Target="http://www.investopedia.com/terms/t/taxdeferred.asp" TargetMode="External"/><Relationship Id="rId5" Type="http://schemas.openxmlformats.org/officeDocument/2006/relationships/hyperlink" Target="http://www.investopedia.com/terms/t/taxdeferred.asp" TargetMode="External"/><Relationship Id="rId6" Type="http://schemas.openxmlformats.org/officeDocument/2006/relationships/hyperlink" Target="http://www.investopedia.com/terms/t/taxdeferred.asp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Investing &amp; Ret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ves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0" y="129528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d: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cha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r other item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with 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abl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.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gener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nvest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n the hope of making more mon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Rule of 7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0" y="1295280"/>
            <a:ext cx="91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le of 7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guideline for determining how many years it will take an investment to double in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alculate the number of years required for an investment to double in value, divide 72 by the annual percentage rate (AP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invest $1,000 at 3 percent interest, how long will it take for your money to dou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Arial"/>
              </a:rPr>
              <a:t>72/3= 24 years to $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will it take $10,000 to double at 8% intere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f6228"/>
                </a:solidFill>
                <a:latin typeface="Arial"/>
              </a:rPr>
              <a:t>72/8= 9 years to $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s the power of compound intere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Inves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0" y="129528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earn about various types of investments and their advantages and disadvantages go to: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://library.thinkquest.org/3096/2type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sei_enroute_9car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 nice to your future self and save for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tirem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01(k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efined contribution plan offered by a corporation to its employees, which allows employees to set aside tax-deferred income for retirement purposes; in some cases, employers will match their contribu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ividual retirement Account (IRA)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x-deferred arrangement for individuals with earned income and their non-income-producing spouses; growth is not taxed until money is withdrawn; contributions to an IRA are often tax-deducti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th IR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retirement account funded with after-tax dollars that subsequently grows tax fre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nvestment/retirement terms and definitions are available here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nvestopedia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.com/terms/t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taxdeferred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2:21:52Z</dcterms:created>
  <dc:creator>admin</dc:creator>
  <dc:description/>
  <dc:language>en-US</dc:language>
  <cp:lastModifiedBy>Leif Erickson</cp:lastModifiedBy>
  <dcterms:modified xsi:type="dcterms:W3CDTF">2011-08-03T04:35:39Z</dcterms:modified>
  <cp:revision>18</cp:revision>
  <dc:subject/>
  <dc:title>Road to Financial Maturity</dc:title>
</cp:coreProperties>
</file>